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00720" y="26028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Comic Sans MS"/>
              </a:rPr>
              <a:t>Salmo 8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4172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O Signore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nostro Dio, 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quanto è grande il tu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nome su tutta la terra:</a:t>
            </a:r>
            <a:r>
              <a:rPr b="1" i="1" lang="en-US" sz="48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06864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O Signore, nostro Dio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quanto è grande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il tuo n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su tutta la terra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268280"/>
            <a:ext cx="91440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66"/>
                </a:solidFill>
                <a:latin typeface="Comic Sans MS"/>
              </a:rPr>
              <a:t>Gloria al Padre e al Figl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66"/>
                </a:solidFill>
                <a:latin typeface="Comic Sans MS"/>
              </a:rPr>
              <a:t>E allo SPirito San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66"/>
                </a:solidFill>
                <a:latin typeface="Comic Sans MS"/>
              </a:rPr>
              <a:t>Com’era nel princip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66"/>
                </a:solidFill>
                <a:latin typeface="Comic Sans MS"/>
              </a:rPr>
              <a:t>Ora e sempre nei secoli dei secoli. Amen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83868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Sopra i cieli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si innalz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la tua magnificenza</a:t>
            </a:r>
            <a:r>
              <a:rPr b="1" i="1" lang="it-IT" sz="5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i="1" lang="ar-SA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4370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Comic Sans MS"/>
              </a:rPr>
              <a:t>Con la bocca dei bimb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Comic Sans MS"/>
              </a:rPr>
              <a:t>e dei lattanti affermi la tua potenz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Comic Sans MS"/>
              </a:rPr>
              <a:t>contro i tuoi avversari, per ridur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Comic Sans MS"/>
              </a:rPr>
              <a:t>al silenzio nemici e ribelli</a:t>
            </a:r>
            <a:r>
              <a:rPr b="1" i="1" lang="it-IT" sz="3600" spc="-1" strike="noStrike">
                <a:solidFill>
                  <a:srgbClr val="0066ff"/>
                </a:solidFill>
                <a:latin typeface="Comic Sans MS"/>
              </a:rPr>
              <a:t>.</a:t>
            </a:r>
            <a:r>
              <a:rPr b="1" i="1" lang="ar-SA" sz="36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581360"/>
            <a:ext cx="92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Se guardo il tuo ciel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opera delle tue dita, la lun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e stelle che tu hai fissate</a:t>
            </a:r>
            <a:r>
              <a:rPr b="1" lang="it-IT" sz="4000" spc="-1" strike="noStrike">
                <a:solidFill>
                  <a:srgbClr val="ffffff"/>
                </a:solidFill>
                <a:latin typeface="Comic Sans MS"/>
              </a:rPr>
              <a:t>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2449440" y="0"/>
            <a:ext cx="11593440" cy="685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581360"/>
            <a:ext cx="9144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he cosa è l'uom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perché te ne ricordi e il figli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ell'uomo perché te ne curi</a:t>
            </a:r>
            <a:r>
              <a:rPr b="1" i="1" lang="ar-SA" sz="40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08640"/>
            <a:ext cx="9144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ppure l'hai fa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poco meno degli angeli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 gloria e di onore lo hai corona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25080" cy="688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325080" cy="699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653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Gli hai dato pot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sulle  opere delle tue mani,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tutto hai posto sotto i suoi pied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82836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Tutti i greggi e gli armenti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tutte le bestie della campagn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4869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e i pesci del mare, c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percorrono le vie del mare</a:t>
            </a:r>
            <a:r>
              <a:rPr b="1" i="1" lang="it-IT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ar-SA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93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Gli uccelli del cielo…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21:17:53Z</dcterms:created>
  <dc:creator>sr. anna salwa isaied</dc:creator>
  <dc:description/>
  <dc:language>en-US</dc:language>
  <cp:lastModifiedBy>Steo@Stefi</cp:lastModifiedBy>
  <dcterms:modified xsi:type="dcterms:W3CDTF">2007-12-31T14:05:56Z</dcterms:modified>
  <cp:revision>64</cp:revision>
  <dc:subject/>
  <dc:title>pregare i salmi con l'immagine</dc:title>
</cp:coreProperties>
</file>